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og.wav" ContentType="audio/x-wav"/>
  <Override PartName="/ppt/media/image4.png" ContentType="image/png"/>
  <Override PartName="/ppt/media/image5.wmf" ContentType="image/x-wmf"/>
  <Override PartName="/ppt/media/ques-answ.wav" ContentType="audio/x-wav"/>
  <Override PartName="/ppt/media/image3.png" ContentType="image/png"/>
  <Override PartName="/ppt/media/boo.wav" ContentType="audio/x-wav"/>
  <Override PartName="/ppt/media/thunk.wav" ContentType="audio/x-wav"/>
  <Override PartName="/ppt/media/mmm.wav" ContentType="audio/x-wav"/>
  <Override PartName="/ppt/media/image1.png" ContentType="image/png"/>
  <Override PartName="/ppt/media/Applaus.wav" ContentType="audio/x-wav"/>
  <Override PartName="/ppt/media/moan2.wav" ContentType="audio/x-wav"/>
  <Override PartName="/ppt/media/popcorn.wav" ContentType="audio/x-wav"/>
  <Override PartName="/ppt/media/image6.png" ContentType="image/png"/>
  <Override PartName="/ppt/media/feature.wav" ContentType="audio/x-wav"/>
  <Override PartName="/ppt/media/image7.png" ContentType="image/png"/>
  <Override PartName="/ppt/media/WHOOSH.WAV" ContentType="audio/x-wav"/>
  <Override PartName="/ppt/media/image8.png" ContentType="image/png"/>
  <Override PartName="/ppt/media/image2.jpeg" ContentType="image/jpeg"/>
  <Override PartName="/ppt/media/pizza.wav" ContentType="audio/x-wav"/>
  <Override PartName="/ppt/media/dkhowt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AED-29E0-44DF-A9E6-7450F9528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C37F-1930-4AF2-9246-2D55A7965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44B-69CE-4891-9C2B-DADCD7D1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9BA-CBFB-4F83-987C-B06A89D4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E7F-6570-4C74-866A-C4ADAEF9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3B0-103A-4FF1-ADAF-227609EC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2BE-050E-4485-9E11-A93AE7DF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A19-46E8-43A5-9923-757D501F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C8A-CD60-48D9-BBAF-22C8796A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595-302C-4FE6-B684-061B1323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88E-D41B-40CD-A709-3647BEC1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492-7FCC-46A5-A021-DDA9786F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142-74B7-4807-A33A-73C3D92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551-88AC-45D0-AA0F-1B493BAF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388-8FEE-481D-BCA0-C8E48F7E6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eature.wav"/><Relationship Id="rId3" Type="http://schemas.openxmlformats.org/officeDocument/2006/relationships/audio" Target="../media/Applau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opcorn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.wav"/><Relationship Id="rId3" Type="http://schemas.openxmlformats.org/officeDocument/2006/relationships/audio" Target="../media/thun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khowt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moan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ques-ans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o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audio" Target="../media/bo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opcor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mm.wav"/><Relationship Id="rId3" Type="http://schemas.openxmlformats.org/officeDocument/2006/relationships/audio" Target="../media/pizz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audio" Target="../media/bo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62120" y="1905120"/>
            <a:ext cx="716256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onym Cinema</a:t>
            </a:r>
            <a:endParaRPr b="0" lang="en-US" sz="4000" spc="1" strike="noStrike">
              <a:ln w="3168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37240" y="419112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by Lisa  Havely, Kim Combs and Carolyn Green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linekids"/>
          <p:cNvPicPr/>
          <p:nvPr/>
        </p:nvPicPr>
        <p:blipFill>
          <a:blip r:embed="rId1"/>
          <a:stretch/>
        </p:blipFill>
        <p:spPr>
          <a:xfrm>
            <a:off x="2057400" y="3581280"/>
            <a:ext cx="51055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eatu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3200400" y="1447920"/>
            <a:ext cx="1581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ah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22240" y="2739960"/>
            <a:ext cx="778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umbs Up! You have won free popco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popcorn"/>
          <p:cNvPicPr/>
          <p:nvPr/>
        </p:nvPicPr>
        <p:blipFill>
          <a:blip r:embed="rId1"/>
          <a:stretch/>
        </p:blipFill>
        <p:spPr>
          <a:xfrm>
            <a:off x="4267080" y="35337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pc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144440" y="1828800"/>
            <a:ext cx="71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 a computer near you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ore Cyber Exchange for Educ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werPoint presentatio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discwave"/>
          <p:cNvPicPr/>
          <p:nvPr/>
        </p:nvPicPr>
        <p:blipFill>
          <a:blip r:embed="rId1"/>
          <a:stretch/>
        </p:blipFill>
        <p:spPr>
          <a:xfrm>
            <a:off x="3581280" y="4267080"/>
            <a:ext cx="1994040" cy="162720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 rot="21235800">
            <a:off x="2514600" y="304920"/>
            <a:ext cx="4091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Coming Soon 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  <p:sndAc>
      <p:stSnd>
        <p:snd r:embed="rId2" name="Applau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un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990720" y="2743200"/>
            <a:ext cx="716256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onyms</a:t>
            </a:r>
            <a:endParaRPr b="0" lang="en-US" sz="4000" spc="1" strike="noStrike">
              <a:ln w="3168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5"/>
          <p:cNvSpPr txBox="1"/>
          <p:nvPr/>
        </p:nvSpPr>
        <p:spPr>
          <a:xfrm rot="21248400">
            <a:off x="2057400" y="609480"/>
            <a:ext cx="4952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Starring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6"/>
          <p:cNvSpPr/>
          <p:nvPr/>
        </p:nvSpPr>
        <p:spPr>
          <a:xfrm rot="20506200">
            <a:off x="7238520" y="4952520"/>
            <a:ext cx="914400" cy="838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 rot="1268400">
            <a:off x="990360" y="4800240"/>
            <a:ext cx="914400" cy="8380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/>
          <p:cNvSpPr/>
          <p:nvPr/>
        </p:nvSpPr>
        <p:spPr>
          <a:xfrm rot="20506200">
            <a:off x="914040" y="1066320"/>
            <a:ext cx="914400" cy="838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/>
          <p:cNvSpPr/>
          <p:nvPr/>
        </p:nvSpPr>
        <p:spPr>
          <a:xfrm rot="20506200">
            <a:off x="7162560" y="457200"/>
            <a:ext cx="914400" cy="8380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/>
          <p:cNvSpPr/>
          <p:nvPr/>
        </p:nvSpPr>
        <p:spPr>
          <a:xfrm rot="21483000">
            <a:off x="3962160" y="5334120"/>
            <a:ext cx="914400" cy="8380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khow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304920" y="15228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ynonym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re words that have the same, or nearly the same mea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31840" y="1523880"/>
            <a:ext cx="8634240" cy="5046120"/>
            <a:chOff x="231840" y="1523880"/>
            <a:chExt cx="8634240" cy="5046120"/>
          </a:xfrm>
        </p:grpSpPr>
        <p:sp>
          <p:nvSpPr>
            <p:cNvPr id="61" name="Text Box 9"/>
            <p:cNvSpPr/>
            <p:nvPr/>
          </p:nvSpPr>
          <p:spPr>
            <a:xfrm>
              <a:off x="231840" y="1600200"/>
              <a:ext cx="8634240" cy="49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I have a </a:t>
              </a: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ug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headach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ynonym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for huge is </a:t>
              </a: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igantic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becau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ey mean nearly the same thing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Picture 11" descr="teacher1 copy"/>
            <p:cNvPicPr/>
            <p:nvPr/>
          </p:nvPicPr>
          <p:blipFill>
            <a:blip r:embed="rId1"/>
            <a:stretch/>
          </p:blipFill>
          <p:spPr>
            <a:xfrm>
              <a:off x="5257800" y="1523880"/>
              <a:ext cx="3398760" cy="314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a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2280" y="33526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a synonym for the underlined word in the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mousehand"/>
          <p:cNvPicPr/>
          <p:nvPr/>
        </p:nvPicPr>
        <p:blipFill>
          <a:blip r:embed="rId1"/>
          <a:stretch/>
        </p:blipFill>
        <p:spPr>
          <a:xfrm>
            <a:off x="3124080" y="762120"/>
            <a:ext cx="205740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es-ans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90520" y="530280"/>
            <a:ext cx="616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g w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el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cha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1596960"/>
            <a:ext cx="18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48080" y="258768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dogbark"/>
          <p:cNvPicPr/>
          <p:nvPr/>
        </p:nvPicPr>
        <p:blipFill>
          <a:blip r:embed="rId1"/>
          <a:stretch/>
        </p:blipFill>
        <p:spPr>
          <a:xfrm>
            <a:off x="4495680" y="1523880"/>
            <a:ext cx="3019680" cy="2381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o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75960" y="11397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52280" y="1901880"/>
            <a:ext cx="57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rry,the movie critic say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00000" y="2739960"/>
            <a:ext cx="60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g was under the cha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272412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boo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3200400" y="1447920"/>
            <a:ext cx="1581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ah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22240" y="2739960"/>
            <a:ext cx="778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umbs Up! You have won free popco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popcorn"/>
          <p:cNvPicPr/>
          <p:nvPr/>
        </p:nvPicPr>
        <p:blipFill>
          <a:blip r:embed="rId1"/>
          <a:stretch/>
        </p:blipFill>
        <p:spPr>
          <a:xfrm>
            <a:off x="4267080" y="35337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pc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63200" y="1143000"/>
            <a:ext cx="47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ordered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ittl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pizzaman"/>
          <p:cNvPicPr/>
          <p:nvPr/>
        </p:nvPicPr>
        <p:blipFill>
          <a:blip r:embed="rId1"/>
          <a:stretch/>
        </p:blipFill>
        <p:spPr>
          <a:xfrm>
            <a:off x="4495680" y="2362320"/>
            <a:ext cx="2919600" cy="40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mmm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z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73040" y="11430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52280" y="1901880"/>
            <a:ext cx="57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rry,the movie critic say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221480" y="2743200"/>
            <a:ext cx="49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ordered a small piz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272412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boo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5:36Z</dcterms:created>
  <dc:creator>Jefferson County Schools</dc:creator>
  <dc:description/>
  <dc:language>en-US</dc:language>
  <cp:lastModifiedBy>teacher</cp:lastModifiedBy>
  <dcterms:modified xsi:type="dcterms:W3CDTF">2010-12-06T02:47:23Z</dcterms:modified>
  <cp:revision>7</cp:revision>
  <dc:subject/>
  <dc:title>No Slide Title</dc:title>
</cp:coreProperties>
</file>